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A2D-DF84-4A3A-B3C7-D2315A0A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401-45A0-41A4-A0B0-D84D522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02B-8C4B-41C7-B7B4-BB5FDE6C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93E-6452-4C13-B9E8-A7834307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3448-D0EB-425B-956F-78020678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11B-72D4-4F95-AB47-023BFCA7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4524-193A-4A8E-8C5D-27585F8A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308C-1895-4812-9172-EF36FAC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742C-694B-4CD3-8C63-66CE486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F1B-62FE-4C6B-93C1-4C903BC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9BA0-980E-446E-B941-39B1109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D80-9F20-4907-BD45-713D73D4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4308-C4E1-4164-9973-97C7858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1F0-8047-4DE8-9172-44BA766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0D5-9C5B-47E6-80D6-E76DA53B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C4CC-4D8C-47DD-8134-83873F44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392E-F4C0-4DA6-ABB2-AC134166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63C-0F70-4CA0-B173-272FF141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475-73F1-4186-B62B-38482E4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A02-2DD7-45F4-BDCF-D367A67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27E-02BA-46AE-9395-8EC397B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31E-48B2-43A3-9E6A-8AB22B0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D63-E429-440E-8063-AE5A6FA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F8D-4811-4398-BF50-0E61DC05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939-3C31-4B67-B2D0-D0C0153A2F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0FD5-896D-4F08-AE24-2270349835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 to Metadata for Digital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ilyn Deega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fugee Studies Cent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versity of Oxfor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ive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information needed to manage the object in the 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tur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ive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rvation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item i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t is migrated to anothe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s and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ptive or intellectu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the metadata that gives users access to th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s to be acce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y te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manuscript, gives folio or shelf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very verb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ute descriptions of the object and it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ptive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include classification systems, controlled vocabularies and thesauri to help maintain consistency across the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need name authority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link to controlled iconographic systems such as ICON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show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www.bodley.ox.ac.u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metadat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bou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brary catalo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tional and electro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ve finding a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 catalo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eum catalo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in the digital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analogu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adata is held alongside or within obje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k title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adata tools have pointers to the obje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ues with shelf marks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in the digital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data is one of the critical issues in digital resourc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needed at all stages of the creation and management of a digital re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ization of metadata and protocols has been vital in the development of resources which can interope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in the digital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l-formed metadata is the only way to find objects in digital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engines based on the content are not sufficiently sub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, human-generated metadata is very expensive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done on cataloguing internet resources in Oxford--a cataloguer can deal with 3-4 resources per h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systems and sch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it is important to define what metadata needs to be recor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, a schema can be cho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the other way roun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sometimes there is no choice--if a schema is in place, then it might be necessary to work with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systems and sch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(too many!) metadata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 (all flavours), HTML, SGML, XML, TEI, EAD, Dublin Core, etc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, however, sometimes possible to map between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-TEI, CORC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given that systems are of different levels of complexity, info gets l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ti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 or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al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 collection of data, or a multi-part item fit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D (Encoded Archival Description) is very powerful for structural information as it allows an archive to be described by its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9:17:54Z</dcterms:created>
  <dc:creator>Marilyn Deegan</dc:creator>
  <dc:description/>
  <dc:language>en-US</dc:language>
  <cp:lastModifiedBy>Marilyn Deegan</cp:lastModifiedBy>
  <dcterms:modified xsi:type="dcterms:W3CDTF">2000-11-03T11:31:11Z</dcterms:modified>
  <cp:revision>6</cp:revision>
  <dc:subject/>
  <dc:title>Introduction to Metadata</dc:title>
</cp:coreProperties>
</file>